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29260800" cy="36576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9601200" cy="7315200"/>
          </a:xfrm>
          <a:prstGeom prst="roundRect">
            <a:avLst>
              <a:gd name="adj" fmla="val 1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9601200" cy="7315200"/>
          </a:xfrm>
          <a:prstGeom prst="roundRect">
            <a:avLst>
              <a:gd name="adj" fmla="val 1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9601200" cy="7315200"/>
          </a:xfrm>
          <a:prstGeom prst="roundRect">
            <a:avLst>
              <a:gd name="adj" fmla="val 1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0" y="0"/>
            <a:ext cx="41608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5437080" y="0"/>
            <a:ext cx="41626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3703320" y="-16129440"/>
            <a:ext cx="2189160" cy="36091800"/>
          </a:xfrm>
          <a:prstGeom prst="rect">
            <a:avLst/>
          </a:prstGeom>
          <a:noFill/>
          <a:ln w="0">
            <a:noFill/>
          </a:ln>
        </p:spPr>
        <p:txBody>
          <a:bodyPr lIns="434520" rIns="434520" tIns="217440" bIns="21744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2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60120" y="3475080"/>
            <a:ext cx="76770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0" y="6850080"/>
            <a:ext cx="41608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2"/>
          </p:nvPr>
        </p:nvSpPr>
        <p:spPr>
          <a:xfrm>
            <a:off x="5436720" y="6946560"/>
            <a:ext cx="4157640" cy="3603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836903-B8AC-48DA-B95C-BC1E6582FB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9"/>
          <p:cNvSpPr/>
          <p:nvPr/>
        </p:nvSpPr>
        <p:spPr>
          <a:xfrm>
            <a:off x="5437080" y="6946920"/>
            <a:ext cx="4157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D588BF-CF64-494B-A141-25E08A84AA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1"/>
          <p:cNvSpPr/>
          <p:nvPr/>
        </p:nvSpPr>
        <p:spPr>
          <a:xfrm>
            <a:off x="3703680" y="-16125840"/>
            <a:ext cx="2193840" cy="3609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960480" y="3475080"/>
            <a:ext cx="767880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32D76-CAF7-4F06-9118-0865A7D8AD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99960" y="1234800"/>
            <a:ext cx="24855480" cy="10125000"/>
          </a:xfrm>
          <a:prstGeom prst="rect">
            <a:avLst/>
          </a:prstGeom>
          <a:noFill/>
          <a:ln w="0">
            <a:noFill/>
          </a:ln>
        </p:spPr>
        <p:txBody>
          <a:bodyPr lIns="434520" rIns="434520" tIns="217440" bIns="21744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99960" y="10540800"/>
            <a:ext cx="24855480" cy="10477800"/>
          </a:xfrm>
          <a:prstGeom prst="rect">
            <a:avLst/>
          </a:prstGeom>
          <a:noFill/>
          <a:ln w="0">
            <a:noFill/>
          </a:ln>
        </p:spPr>
        <p:txBody>
          <a:bodyPr lIns="434520" rIns="434520" tIns="217440" bIns="21744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99960" y="22014360"/>
            <a:ext cx="24855480" cy="10477800"/>
          </a:xfrm>
          <a:prstGeom prst="rect">
            <a:avLst/>
          </a:prstGeom>
          <a:noFill/>
          <a:ln w="0">
            <a:noFill/>
          </a:ln>
        </p:spPr>
        <p:txBody>
          <a:bodyPr lIns="434520" rIns="434520" tIns="217440" bIns="21744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0323D-EF34-49F5-9E37-EB2449B88D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99960" y="1234800"/>
            <a:ext cx="24855480" cy="10125000"/>
          </a:xfrm>
          <a:prstGeom prst="rect">
            <a:avLst/>
          </a:prstGeom>
          <a:noFill/>
          <a:ln w="0">
            <a:noFill/>
          </a:ln>
        </p:spPr>
        <p:txBody>
          <a:bodyPr lIns="434520" rIns="434520" tIns="217440" bIns="21744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99960" y="10540800"/>
            <a:ext cx="12129120" cy="10477800"/>
          </a:xfrm>
          <a:prstGeom prst="rect">
            <a:avLst/>
          </a:prstGeom>
          <a:noFill/>
          <a:ln w="0">
            <a:noFill/>
          </a:ln>
        </p:spPr>
        <p:txBody>
          <a:bodyPr lIns="434520" rIns="434520" tIns="217440" bIns="21744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936040" y="10540800"/>
            <a:ext cx="12129120" cy="10477800"/>
          </a:xfrm>
          <a:prstGeom prst="rect">
            <a:avLst/>
          </a:prstGeom>
          <a:noFill/>
          <a:ln w="0">
            <a:noFill/>
          </a:ln>
        </p:spPr>
        <p:txBody>
          <a:bodyPr lIns="434520" rIns="434520" tIns="217440" bIns="21744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99960" y="22014360"/>
            <a:ext cx="12129120" cy="10477800"/>
          </a:xfrm>
          <a:prstGeom prst="rect">
            <a:avLst/>
          </a:prstGeom>
          <a:noFill/>
          <a:ln w="0">
            <a:noFill/>
          </a:ln>
        </p:spPr>
        <p:txBody>
          <a:bodyPr lIns="434520" rIns="434520" tIns="217440" bIns="21744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4936040" y="22014360"/>
            <a:ext cx="12129120" cy="10477800"/>
          </a:xfrm>
          <a:prstGeom prst="rect">
            <a:avLst/>
          </a:prstGeom>
          <a:noFill/>
          <a:ln w="0">
            <a:noFill/>
          </a:ln>
        </p:spPr>
        <p:txBody>
          <a:bodyPr lIns="434520" rIns="434520" tIns="217440" bIns="21744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05A92-F910-48DC-87C1-2979B093B6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99960" y="1234800"/>
            <a:ext cx="24855480" cy="10125000"/>
          </a:xfrm>
          <a:prstGeom prst="rect">
            <a:avLst/>
          </a:prstGeom>
          <a:noFill/>
          <a:ln w="0">
            <a:noFill/>
          </a:ln>
        </p:spPr>
        <p:txBody>
          <a:bodyPr lIns="434520" rIns="434520" tIns="217440" bIns="21744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99960" y="10540800"/>
            <a:ext cx="8003160" cy="10477800"/>
          </a:xfrm>
          <a:prstGeom prst="rect">
            <a:avLst/>
          </a:prstGeom>
          <a:noFill/>
          <a:ln w="0">
            <a:noFill/>
          </a:ln>
        </p:spPr>
        <p:txBody>
          <a:bodyPr lIns="434520" rIns="434520" tIns="217440" bIns="21744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03800" y="10540800"/>
            <a:ext cx="8003160" cy="10477800"/>
          </a:xfrm>
          <a:prstGeom prst="rect">
            <a:avLst/>
          </a:prstGeom>
          <a:noFill/>
          <a:ln w="0">
            <a:noFill/>
          </a:ln>
        </p:spPr>
        <p:txBody>
          <a:bodyPr lIns="434520" rIns="434520" tIns="217440" bIns="21744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007280" y="10540800"/>
            <a:ext cx="8003160" cy="10477800"/>
          </a:xfrm>
          <a:prstGeom prst="rect">
            <a:avLst/>
          </a:prstGeom>
          <a:noFill/>
          <a:ln w="0">
            <a:noFill/>
          </a:ln>
        </p:spPr>
        <p:txBody>
          <a:bodyPr lIns="434520" rIns="434520" tIns="217440" bIns="21744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99960" y="22014360"/>
            <a:ext cx="8003160" cy="10477800"/>
          </a:xfrm>
          <a:prstGeom prst="rect">
            <a:avLst/>
          </a:prstGeom>
          <a:noFill/>
          <a:ln w="0">
            <a:noFill/>
          </a:ln>
        </p:spPr>
        <p:txBody>
          <a:bodyPr lIns="434520" rIns="434520" tIns="217440" bIns="21744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603800" y="22014360"/>
            <a:ext cx="8003160" cy="10477800"/>
          </a:xfrm>
          <a:prstGeom prst="rect">
            <a:avLst/>
          </a:prstGeom>
          <a:noFill/>
          <a:ln w="0">
            <a:noFill/>
          </a:ln>
        </p:spPr>
        <p:txBody>
          <a:bodyPr lIns="434520" rIns="434520" tIns="217440" bIns="21744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007280" y="22014360"/>
            <a:ext cx="8003160" cy="10477800"/>
          </a:xfrm>
          <a:prstGeom prst="rect">
            <a:avLst/>
          </a:prstGeom>
          <a:noFill/>
          <a:ln w="0">
            <a:noFill/>
          </a:ln>
        </p:spPr>
        <p:txBody>
          <a:bodyPr lIns="434520" rIns="434520" tIns="217440" bIns="21744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B99DC-4DC7-4224-854C-109F83EC55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99960" y="1234800"/>
            <a:ext cx="24855480" cy="10125000"/>
          </a:xfrm>
          <a:prstGeom prst="rect">
            <a:avLst/>
          </a:prstGeom>
          <a:noFill/>
          <a:ln w="0">
            <a:noFill/>
          </a:ln>
        </p:spPr>
        <p:txBody>
          <a:bodyPr lIns="434520" rIns="434520" tIns="217440" bIns="21744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99960" y="10540800"/>
            <a:ext cx="24855480" cy="219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4D3FF-0A8B-472C-8CDC-492F726636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99960" y="1234800"/>
            <a:ext cx="24855480" cy="10125000"/>
          </a:xfrm>
          <a:prstGeom prst="rect">
            <a:avLst/>
          </a:prstGeom>
          <a:noFill/>
          <a:ln w="0">
            <a:noFill/>
          </a:ln>
        </p:spPr>
        <p:txBody>
          <a:bodyPr lIns="434520" rIns="434520" tIns="217440" bIns="21744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99960" y="10540800"/>
            <a:ext cx="24855480" cy="21966120"/>
          </a:xfrm>
          <a:prstGeom prst="rect">
            <a:avLst/>
          </a:prstGeom>
          <a:noFill/>
          <a:ln w="0">
            <a:noFill/>
          </a:ln>
        </p:spPr>
        <p:txBody>
          <a:bodyPr lIns="434520" rIns="434520" tIns="217440" bIns="21744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8D405-D53C-4137-8259-3E89C1FFAF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99960" y="1234800"/>
            <a:ext cx="24855480" cy="10125000"/>
          </a:xfrm>
          <a:prstGeom prst="rect">
            <a:avLst/>
          </a:prstGeom>
          <a:noFill/>
          <a:ln w="0">
            <a:noFill/>
          </a:ln>
        </p:spPr>
        <p:txBody>
          <a:bodyPr lIns="434520" rIns="434520" tIns="217440" bIns="21744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99960" y="10540800"/>
            <a:ext cx="12129120" cy="21966120"/>
          </a:xfrm>
          <a:prstGeom prst="rect">
            <a:avLst/>
          </a:prstGeom>
          <a:noFill/>
          <a:ln w="0">
            <a:noFill/>
          </a:ln>
        </p:spPr>
        <p:txBody>
          <a:bodyPr lIns="434520" rIns="434520" tIns="217440" bIns="21744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4936040" y="10540800"/>
            <a:ext cx="12129120" cy="21966120"/>
          </a:xfrm>
          <a:prstGeom prst="rect">
            <a:avLst/>
          </a:prstGeom>
          <a:noFill/>
          <a:ln w="0">
            <a:noFill/>
          </a:ln>
        </p:spPr>
        <p:txBody>
          <a:bodyPr lIns="434520" rIns="434520" tIns="217440" bIns="21744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9A29C-3CEC-4CAD-997A-69BA08BF1F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99960" y="1234800"/>
            <a:ext cx="24855480" cy="10125000"/>
          </a:xfrm>
          <a:prstGeom prst="rect">
            <a:avLst/>
          </a:prstGeom>
          <a:noFill/>
          <a:ln w="0">
            <a:noFill/>
          </a:ln>
        </p:spPr>
        <p:txBody>
          <a:bodyPr lIns="434520" rIns="434520" tIns="217440" bIns="21744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63A7A-8BB3-48CC-B92D-C580CFE4B5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99960" y="1234800"/>
            <a:ext cx="24855480" cy="4693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6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5103D-5A7F-4424-8778-4AF135AEA4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99960" y="1234800"/>
            <a:ext cx="24855480" cy="10125000"/>
          </a:xfrm>
          <a:prstGeom prst="rect">
            <a:avLst/>
          </a:prstGeom>
          <a:noFill/>
          <a:ln w="0">
            <a:noFill/>
          </a:ln>
        </p:spPr>
        <p:txBody>
          <a:bodyPr lIns="434520" rIns="434520" tIns="217440" bIns="21744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99960" y="10540800"/>
            <a:ext cx="12129120" cy="10477800"/>
          </a:xfrm>
          <a:prstGeom prst="rect">
            <a:avLst/>
          </a:prstGeom>
          <a:noFill/>
          <a:ln w="0">
            <a:noFill/>
          </a:ln>
        </p:spPr>
        <p:txBody>
          <a:bodyPr lIns="434520" rIns="434520" tIns="217440" bIns="21744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4936040" y="10540800"/>
            <a:ext cx="12129120" cy="21966120"/>
          </a:xfrm>
          <a:prstGeom prst="rect">
            <a:avLst/>
          </a:prstGeom>
          <a:noFill/>
          <a:ln w="0">
            <a:noFill/>
          </a:ln>
        </p:spPr>
        <p:txBody>
          <a:bodyPr lIns="434520" rIns="434520" tIns="217440" bIns="21744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99960" y="22014360"/>
            <a:ext cx="12129120" cy="10477800"/>
          </a:xfrm>
          <a:prstGeom prst="rect">
            <a:avLst/>
          </a:prstGeom>
          <a:noFill/>
          <a:ln w="0">
            <a:noFill/>
          </a:ln>
        </p:spPr>
        <p:txBody>
          <a:bodyPr lIns="434520" rIns="434520" tIns="217440" bIns="21744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E6CA3-C44F-4AB8-9E41-6D0587A570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99960" y="1234800"/>
            <a:ext cx="24855480" cy="10125000"/>
          </a:xfrm>
          <a:prstGeom prst="rect">
            <a:avLst/>
          </a:prstGeom>
          <a:noFill/>
          <a:ln w="0">
            <a:noFill/>
          </a:ln>
        </p:spPr>
        <p:txBody>
          <a:bodyPr lIns="434520" rIns="434520" tIns="217440" bIns="21744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99960" y="10540800"/>
            <a:ext cx="12129120" cy="21966120"/>
          </a:xfrm>
          <a:prstGeom prst="rect">
            <a:avLst/>
          </a:prstGeom>
          <a:noFill/>
          <a:ln w="0">
            <a:noFill/>
          </a:ln>
        </p:spPr>
        <p:txBody>
          <a:bodyPr lIns="434520" rIns="434520" tIns="217440" bIns="21744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4936040" y="10540800"/>
            <a:ext cx="12129120" cy="10477800"/>
          </a:xfrm>
          <a:prstGeom prst="rect">
            <a:avLst/>
          </a:prstGeom>
          <a:noFill/>
          <a:ln w="0">
            <a:noFill/>
          </a:ln>
        </p:spPr>
        <p:txBody>
          <a:bodyPr lIns="434520" rIns="434520" tIns="217440" bIns="21744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936040" y="22014360"/>
            <a:ext cx="12129120" cy="10477800"/>
          </a:xfrm>
          <a:prstGeom prst="rect">
            <a:avLst/>
          </a:prstGeom>
          <a:noFill/>
          <a:ln w="0">
            <a:noFill/>
          </a:ln>
        </p:spPr>
        <p:txBody>
          <a:bodyPr lIns="434520" rIns="434520" tIns="217440" bIns="21744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5C8CF-7793-46E8-BE1F-08F0A3E09E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99960" y="1234800"/>
            <a:ext cx="24855480" cy="10125000"/>
          </a:xfrm>
          <a:prstGeom prst="rect">
            <a:avLst/>
          </a:prstGeom>
          <a:noFill/>
          <a:ln w="0">
            <a:noFill/>
          </a:ln>
        </p:spPr>
        <p:txBody>
          <a:bodyPr lIns="434520" rIns="434520" tIns="217440" bIns="21744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99960" y="10540800"/>
            <a:ext cx="12129120" cy="10477800"/>
          </a:xfrm>
          <a:prstGeom prst="rect">
            <a:avLst/>
          </a:prstGeom>
          <a:noFill/>
          <a:ln w="0">
            <a:noFill/>
          </a:ln>
        </p:spPr>
        <p:txBody>
          <a:bodyPr lIns="434520" rIns="434520" tIns="217440" bIns="21744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4936040" y="10540800"/>
            <a:ext cx="12129120" cy="10477800"/>
          </a:xfrm>
          <a:prstGeom prst="rect">
            <a:avLst/>
          </a:prstGeom>
          <a:noFill/>
          <a:ln w="0">
            <a:noFill/>
          </a:ln>
        </p:spPr>
        <p:txBody>
          <a:bodyPr lIns="434520" rIns="434520" tIns="217440" bIns="21744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99960" y="22014360"/>
            <a:ext cx="24855480" cy="10477800"/>
          </a:xfrm>
          <a:prstGeom prst="rect">
            <a:avLst/>
          </a:prstGeom>
          <a:noFill/>
          <a:ln w="0">
            <a:noFill/>
          </a:ln>
        </p:spPr>
        <p:txBody>
          <a:bodyPr lIns="434520" rIns="434520" tIns="217440" bIns="21744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1D0C0-F261-4D45-8F62-07B3C774CB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99960" y="1234800"/>
            <a:ext cx="24855480" cy="10125000"/>
          </a:xfrm>
          <a:prstGeom prst="rect">
            <a:avLst/>
          </a:prstGeom>
          <a:noFill/>
          <a:ln w="0">
            <a:noFill/>
          </a:ln>
        </p:spPr>
        <p:txBody>
          <a:bodyPr lIns="434520" rIns="434520" tIns="217440" bIns="21744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99960" y="10540800"/>
            <a:ext cx="24855480" cy="21966120"/>
          </a:xfrm>
          <a:prstGeom prst="rect">
            <a:avLst/>
          </a:prstGeom>
          <a:noFill/>
          <a:ln w="0">
            <a:noFill/>
          </a:ln>
        </p:spPr>
        <p:txBody>
          <a:bodyPr lIns="434520" rIns="434520" tIns="217440" bIns="217440" anchor="t">
            <a:normAutofit/>
          </a:bodyPr>
          <a:p>
            <a:pPr marL="343080" indent="0">
              <a:spcBef>
                <a:spcPts val="36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2200320" y="33351840"/>
            <a:ext cx="6095880" cy="24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991800" y="33351840"/>
            <a:ext cx="9277200" cy="24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0964600" y="33351480"/>
            <a:ext cx="6091200" cy="2408040"/>
          </a:xfrm>
          <a:prstGeom prst="rect">
            <a:avLst/>
          </a:prstGeom>
          <a:noFill/>
          <a:ln w="0">
            <a:noFill/>
          </a:ln>
        </p:spPr>
        <p:txBody>
          <a:bodyPr lIns="434520" rIns="434520" tIns="217440" bIns="21744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40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D1DE885-2AF9-4EC8-84D2-32407AA5FA7A}" type="slidenum">
              <a:rPr b="0" lang="pt-BR" sz="40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203040" y="281160"/>
            <a:ext cx="28854720" cy="19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9040" rIns="419040" tIns="457200" bIns="457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</a:tabLst>
            </a:pPr>
            <a:r>
              <a:rPr b="1" lang="pt-BR" sz="6600" spc="-1" strike="noStrike">
                <a:solidFill>
                  <a:srgbClr val="000066"/>
                </a:solidFill>
                <a:latin typeface="Times New Roman"/>
              </a:rPr>
              <a:t>Exemplo de Poster para o XI WORCAP</a:t>
            </a:r>
            <a:endParaRPr b="1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Line 2"/>
          <p:cNvSpPr/>
          <p:nvPr/>
        </p:nvSpPr>
        <p:spPr>
          <a:xfrm>
            <a:off x="25560" y="4903920"/>
            <a:ext cx="1440" cy="3167208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5562720" y="1876320"/>
            <a:ext cx="18288000" cy="36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9040" rIns="419040" tIns="45360" bIns="45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Times New Roman"/>
              </a:rPr>
              <a:t>Sobrenome 1, N.</a:t>
            </a:r>
            <a:r>
              <a:rPr b="0" lang="pt-BR" sz="3000" spc="-1" strike="noStrike" baseline="33000">
                <a:solidFill>
                  <a:srgbClr val="000000"/>
                </a:solidFill>
                <a:latin typeface="Times New Roman"/>
              </a:rPr>
              <a:t>$</a:t>
            </a:r>
            <a:r>
              <a:rPr b="0" lang="pt-BR" sz="3000" spc="-1" strike="noStrike">
                <a:solidFill>
                  <a:srgbClr val="000000"/>
                </a:solidFill>
                <a:latin typeface="Times New Roman"/>
              </a:rPr>
              <a:t>, Sobrenome 2, N.</a:t>
            </a:r>
            <a:r>
              <a:rPr b="0" lang="pt-BR" sz="3000" spc="-1" strike="noStrike" baseline="33000">
                <a:solidFill>
                  <a:srgbClr val="000000"/>
                </a:solidFill>
                <a:latin typeface="Times New Roman"/>
              </a:rPr>
              <a:t>$</a:t>
            </a:r>
            <a:r>
              <a:rPr b="0" lang="pt-BR" sz="3000" spc="-1" strike="noStrike">
                <a:solidFill>
                  <a:srgbClr val="000000"/>
                </a:solidFill>
                <a:latin typeface="Times New Roman"/>
              </a:rPr>
              <a:t>, Sobrenome 3, N</a:t>
            </a:r>
            <a:r>
              <a:rPr b="0" lang="pt-BR" sz="3000" spc="-1" strike="noStrike" baseline="33000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pt-BR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</a:tabLst>
            </a:pPr>
            <a:r>
              <a:rPr b="0" lang="pt-BR" sz="3000" spc="-1" strike="noStrike" baseline="33000">
                <a:solidFill>
                  <a:srgbClr val="000000"/>
                </a:solidFill>
                <a:latin typeface="Times New Roman"/>
              </a:rPr>
              <a:t>$</a:t>
            </a:r>
            <a:r>
              <a:rPr b="0" lang="pt-BR" sz="3000" spc="-1" strike="noStrike">
                <a:solidFill>
                  <a:srgbClr val="000000"/>
                </a:solidFill>
                <a:latin typeface="Times New Roman"/>
              </a:rPr>
              <a:t>Programa de Pós-Graduação em Computação Aplicada - CAP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Times New Roman"/>
              </a:rPr>
              <a:t>Laboratório Associado de Computação e Matemática Aplicada – LAC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</a:tabLst>
            </a:pPr>
            <a:r>
              <a:rPr b="0" lang="pt-BR" sz="3000" spc="-1" strike="noStrike" baseline="33000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pt-BR" sz="3000" spc="-1" strike="noStrike">
                <a:solidFill>
                  <a:srgbClr val="000000"/>
                </a:solidFill>
                <a:latin typeface="Times New Roman"/>
              </a:rPr>
              <a:t>Instituto Nacional de Pesquisas Espaciais – INP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Times New Roman"/>
              </a:rPr>
              <a:t>Instituto de Aeronáutica e Espaço – IA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[autor-1,autor-2]@lac.inpe.br, autor-3@iae.b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228600" y="6418440"/>
            <a:ext cx="9491760" cy="23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228600" tIns="45360" bIns="45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6000" spc="-1" strike="noStrike">
                <a:solidFill>
                  <a:srgbClr val="000080"/>
                </a:solidFill>
                <a:latin typeface="Times New Roman"/>
              </a:rPr>
              <a:t>Introdução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A primeira seção do poster deve definir o assunto e mostrar sua importância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179280" y="9107640"/>
            <a:ext cx="9491760" cy="54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228600" tIns="45360" bIns="45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6000" spc="-1" strike="noStrike">
                <a:solidFill>
                  <a:srgbClr val="000066"/>
                </a:solidFill>
                <a:latin typeface="Times New Roman"/>
              </a:rPr>
              <a:t>Seção</a:t>
            </a:r>
            <a:r>
              <a:rPr b="1" lang="pt-BR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A segunda seção do poster pode servir  a vários propósitos, tais como apresentar o estado da arte, métodos ou projeto de sistemas. Um ponto importante em posteres é a utilização de recursos gráficos, figuras, dentre outros ao invés de extensos blocos de texto</a:t>
            </a:r>
            <a:r>
              <a:rPr b="1" lang="pt-BR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19259640" y="11700000"/>
            <a:ext cx="9493200" cy="21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457200" tIns="45360" bIns="45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</a:rPr>
              <a:t>Agradecimento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Os autores agradecem o apoio financeiro da CAPES, CNPq, FAPESP e FINEP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9683640" y="6443640"/>
            <a:ext cx="9493200" cy="41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457200" tIns="45360" bIns="45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6000" spc="-1" strike="noStrike">
                <a:solidFill>
                  <a:srgbClr val="000066"/>
                </a:solidFill>
                <a:latin typeface="Times New Roman"/>
              </a:rPr>
              <a:t>Seção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Uma das seções do poster deverá apresentar os resultados. Geralmente, os resultados podem ser apresentados através de gráficos, desenhos, esquemas,  imagens, etc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8" descr=""/>
          <p:cNvPicPr/>
          <p:nvPr/>
        </p:nvPicPr>
        <p:blipFill>
          <a:blip r:embed="rId1"/>
          <a:stretch/>
        </p:blipFill>
        <p:spPr>
          <a:xfrm>
            <a:off x="2533680" y="2232000"/>
            <a:ext cx="2759040" cy="2340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9"/>
          <p:cNvSpPr/>
          <p:nvPr/>
        </p:nvSpPr>
        <p:spPr>
          <a:xfrm>
            <a:off x="1152360" y="35585280"/>
            <a:ext cx="24552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WORCAP 2011 - XI Workshop dos Cursos de Mestrado e Doutorado em Computação Aplicada do INPE, 8 a 10 de novembro de 2011, São José dos Campos, SP, Brasil.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Line 10"/>
          <p:cNvSpPr/>
          <p:nvPr/>
        </p:nvSpPr>
        <p:spPr>
          <a:xfrm>
            <a:off x="863640" y="720720"/>
            <a:ext cx="27540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Line 11"/>
          <p:cNvSpPr/>
          <p:nvPr/>
        </p:nvSpPr>
        <p:spPr>
          <a:xfrm>
            <a:off x="1079640" y="5759280"/>
            <a:ext cx="27539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9683640" y="10763280"/>
            <a:ext cx="9493200" cy="29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457200" tIns="45360" bIns="45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6000" spc="-1" strike="noStrike">
                <a:solidFill>
                  <a:srgbClr val="000066"/>
                </a:solidFill>
                <a:latin typeface="Times New Roman"/>
              </a:rPr>
              <a:t>Seção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A seção final do poster geralmente  contém conclusões e recomendações ou propostas.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9683640" y="13584240"/>
            <a:ext cx="9493200" cy="31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457200" tIns="45360" bIns="45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6000" spc="-1" strike="noStrike">
                <a:solidFill>
                  <a:srgbClr val="000066"/>
                </a:solidFill>
                <a:latin typeface="Times New Roman"/>
              </a:rPr>
              <a:t>Referências Bibliográficas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Apenas as referências citadas são mostradas na bibliografia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19259640" y="13860360"/>
            <a:ext cx="9493200" cy="34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457200" tIns="45360" bIns="45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Times New Roman"/>
              </a:rPr>
              <a:t>Referência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[1] J. D. Banfield and A. E. Raftery. Model-based Gaussian and non-Gaussian clustering. Biometrics, 49:803–821, 1993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[2] P. Bloomfield. Fourier Analysis of Time Series: An Introduction. Wiley, New York, 1976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[3] R. Wilcox. Trimming and winsorization. In P. Armitage and T. Colton, editors, Encyclopedia of Biostatistics, volume 6, pages 4588–4590. Wiley, Chichester, 1998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19080000" y="6437160"/>
            <a:ext cx="9493560" cy="51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457200" tIns="45360" bIns="453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A referência [1] é um exemplo de uma citação de um artigo. Já a referência [2] é uma citação de um livro, e por fim uma referência de um trabalho publicado em uma coleção [3]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Para saber como criar o arquivo de referências bibliográficas siga o exemplo no arquivo referencias.bib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Line 18"/>
          <p:cNvSpPr/>
          <p:nvPr/>
        </p:nvSpPr>
        <p:spPr>
          <a:xfrm>
            <a:off x="863640" y="35280720"/>
            <a:ext cx="27540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Imagem 19" descr="petrobras_logo.png"/>
          <p:cNvPicPr/>
          <p:nvPr/>
        </p:nvPicPr>
        <p:blipFill>
          <a:blip r:embed="rId2"/>
          <a:stretch/>
        </p:blipFill>
        <p:spPr>
          <a:xfrm>
            <a:off x="24279120" y="2374920"/>
            <a:ext cx="3849840" cy="1793880"/>
          </a:xfrm>
          <a:prstGeom prst="rect">
            <a:avLst/>
          </a:prstGeom>
          <a:ln w="0">
            <a:noFill/>
          </a:ln>
        </p:spPr>
      </p:pic>
      <p:pic>
        <p:nvPicPr>
          <p:cNvPr id="68" name="Imagem 20" descr="gov_logo.jpg"/>
          <p:cNvPicPr/>
          <p:nvPr/>
        </p:nvPicPr>
        <p:blipFill>
          <a:blip r:embed="rId3"/>
          <a:stretch/>
        </p:blipFill>
        <p:spPr>
          <a:xfrm>
            <a:off x="24711120" y="35353800"/>
            <a:ext cx="3195720" cy="1161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1T15:30:44Z</dcterms:created>
  <dc:creator>Michael Alley</dc:creator>
  <dc:description/>
  <dc:language>en-US</dc:language>
  <cp:lastModifiedBy>Dell</cp:lastModifiedBy>
  <cp:lastPrinted>2003-04-18T14:25:05Z</cp:lastPrinted>
  <dcterms:modified xsi:type="dcterms:W3CDTF">2011-10-15T01:04:35Z</dcterms:modified>
  <cp:revision>140</cp:revision>
  <dc:subject/>
  <dc:title>No Slide Title</dc:title>
</cp:coreProperties>
</file>