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29260800" cy="36576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601200" cy="73152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601200" cy="73152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601200" cy="73152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601200" cy="73152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4160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7080" y="0"/>
            <a:ext cx="4162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3703680" y="-16300800"/>
            <a:ext cx="2187360" cy="3643308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60120" y="3475080"/>
            <a:ext cx="767556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850080"/>
            <a:ext cx="4160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5436720" y="6946560"/>
            <a:ext cx="4156200" cy="35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AC31C-F074-419C-BF2A-AFB8AAB5593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437080" y="6946920"/>
            <a:ext cx="415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4FA21-BAF0-481A-8CD0-FA4F31F499D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3680" y="-16125840"/>
            <a:ext cx="2193840" cy="3609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960480" y="3475080"/>
            <a:ext cx="767880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3773-F265-4C70-B5E1-0FC62881D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0320" y="1233360"/>
            <a:ext cx="24853680" cy="101253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0320" y="10541160"/>
            <a:ext cx="2485368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0320" y="28367640"/>
            <a:ext cx="2485368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A6FF-6CDF-460A-9A46-2A31877EF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0320" y="1233360"/>
            <a:ext cx="24853680" cy="101253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0320" y="10541160"/>
            <a:ext cx="121284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35680" y="10541160"/>
            <a:ext cx="121284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0320" y="28367640"/>
            <a:ext cx="121284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935680" y="28367640"/>
            <a:ext cx="121284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BFCD-1576-4C47-AFE3-18FEEE34B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0320" y="1233360"/>
            <a:ext cx="24853680" cy="101253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0320" y="10541160"/>
            <a:ext cx="80028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03800" y="10541160"/>
            <a:ext cx="80028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006920" y="10541160"/>
            <a:ext cx="80028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0320" y="28367640"/>
            <a:ext cx="80028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603800" y="28367640"/>
            <a:ext cx="80028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006920" y="28367640"/>
            <a:ext cx="80028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2944-F787-48B0-944D-AF9A7F49E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0320" y="1233360"/>
            <a:ext cx="24853680" cy="101253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0320" y="10541160"/>
            <a:ext cx="24853680" cy="341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3E84-EC8D-4BCE-96EB-2DDF7EB93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0320" y="1233360"/>
            <a:ext cx="24853680" cy="101253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0320" y="10541160"/>
            <a:ext cx="24853680" cy="3412944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5119-7E00-47EE-B430-D400651F9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0320" y="1233360"/>
            <a:ext cx="24853680" cy="101253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0320" y="10541160"/>
            <a:ext cx="12128400" cy="3412944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935680" y="10541160"/>
            <a:ext cx="12128400" cy="3412944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6D26-0944-40E1-A35A-F3033A60D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0320" y="1233360"/>
            <a:ext cx="24853680" cy="101253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A376-580C-4968-B16D-73C3B2F41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0320" y="1233360"/>
            <a:ext cx="24853680" cy="469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4230-9FBD-4407-B68F-EEFE5BCAC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0320" y="1233360"/>
            <a:ext cx="24853680" cy="101253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0320" y="10541160"/>
            <a:ext cx="121284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935680" y="10541160"/>
            <a:ext cx="12128400" cy="3412944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0320" y="28367640"/>
            <a:ext cx="121284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815C-D2D3-4648-AA58-931720735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0320" y="1233360"/>
            <a:ext cx="24853680" cy="101253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0320" y="10541160"/>
            <a:ext cx="12128400" cy="3412944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935680" y="10541160"/>
            <a:ext cx="121284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935680" y="28367640"/>
            <a:ext cx="121284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AA5E-CCF9-4FBB-A076-9117FDFD2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0320" y="1233360"/>
            <a:ext cx="24853680" cy="101253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0320" y="10541160"/>
            <a:ext cx="121284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935680" y="10541160"/>
            <a:ext cx="1212840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0320" y="28367640"/>
            <a:ext cx="24853680" cy="162795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AF06-DCB1-41B8-BA8A-C42176DAC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0320" y="1233360"/>
            <a:ext cx="24853680" cy="1012536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0320" y="10541160"/>
            <a:ext cx="24853680" cy="3412944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00320" y="33351840"/>
            <a:ext cx="60958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991800" y="33351840"/>
            <a:ext cx="927720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0964240" y="33351480"/>
            <a:ext cx="6089400" cy="2406600"/>
          </a:xfrm>
          <a:prstGeom prst="rect">
            <a:avLst/>
          </a:prstGeom>
          <a:noFill/>
          <a:ln w="0">
            <a:noFill/>
          </a:ln>
        </p:spPr>
        <p:txBody>
          <a:bodyPr lIns="434520" rIns="434520" tIns="217440" bIns="21744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t-BR" sz="4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461F4-2187-4777-B47F-E33241DE4511}" type="slidenum">
              <a:rPr b="1" lang="pt-BR" sz="4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010680" y="914400"/>
            <a:ext cx="8018280" cy="461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3040" y="281160"/>
            <a:ext cx="2885472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9040" rIns="419040" tIns="457200" bIns="45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</a:tabLst>
            </a:pPr>
            <a:r>
              <a:rPr b="1" lang="pt-BR" sz="6600" spc="-1" strike="noStrike">
                <a:solidFill>
                  <a:srgbClr val="000066"/>
                </a:solidFill>
                <a:latin typeface="Times New Roman"/>
              </a:rPr>
              <a:t>Exemplo de Pôster para o XIV WORCAP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" y="4903920"/>
            <a:ext cx="1440" cy="31672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1876320"/>
            <a:ext cx="18288000" cy="32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9040" rIns="41904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Sobrenome 1, N.</a:t>
            </a:r>
            <a:r>
              <a:rPr b="1" lang="pt-BR" sz="3200" spc="-1" strike="noStrike" baseline="33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 Sobrenome 2, N.</a:t>
            </a:r>
            <a:r>
              <a:rPr b="1" lang="pt-BR" sz="30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, Sobrenome 3, N</a:t>
            </a:r>
            <a:r>
              <a:rPr b="1" lang="pt-BR" sz="30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</a:tabLst>
            </a:pPr>
            <a:r>
              <a:rPr b="1" lang="pt-BR" sz="3000" spc="-1" strike="noStrike" baseline="33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Programa de Pós-Graduação em Computação Aplicada - CA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</a:tabLst>
            </a:pPr>
            <a:r>
              <a:rPr b="1" lang="pt-BR" sz="30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Laboratório Associado de Computação e Matemática Aplicada – LA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Instituto Nacional de Pesquisas Espaciais – INP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[autor-1,autor-2]@lac.inpe.br, autor-3@inpe.b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418440"/>
            <a:ext cx="9491760" cy="23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2860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80"/>
                </a:solidFill>
                <a:latin typeface="Times New Roman"/>
              </a:rPr>
              <a:t>Introdução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A primeira seção do pôster deve definir o assunto e mostrar sua importânci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9107640"/>
            <a:ext cx="9491760" cy="9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2860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66"/>
                </a:solidFill>
                <a:latin typeface="Times New Roman"/>
              </a:rPr>
              <a:t>Seção 1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Exemplo de figur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Figura 1: Legenda Figur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4240" y="11700000"/>
            <a:ext cx="94932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45720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66"/>
                </a:solidFill>
                <a:latin typeface="Times New Roman"/>
              </a:rPr>
              <a:t>Agradecimento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Os autores agradecem o apoio financeiro da CAPES, CNPq, FAPESP e FINEP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683640" y="6443640"/>
            <a:ext cx="9493200" cy="100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45720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66"/>
                </a:solidFill>
                <a:latin typeface="Times New Roman"/>
              </a:rPr>
              <a:t>Seção 2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Exemplo de uma tabel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Tabela 1: Legenda Tabel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35585280"/>
            <a:ext cx="2455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WORCAP 2014 - XIV Workshop dos Cursos de Mestrado e Doutorado em Computação Aplicada do INPE, 12 e 13 de novembro de 2014, São José dos Campos, SP, Brasil.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63640" y="720720"/>
            <a:ext cx="2754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76240" y="5759280"/>
            <a:ext cx="275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671040" y="12576240"/>
            <a:ext cx="949320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45720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66"/>
                </a:solidFill>
                <a:latin typeface="Times New Roman"/>
              </a:rPr>
              <a:t>Considerações finai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A seção final do pôster geralmente  contém conclusões, recomendações ou propostas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Apenas as referências citadas são mostradas na bibliografi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259640" y="14884560"/>
            <a:ext cx="9493200" cy="37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45720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66"/>
                </a:solidFill>
                <a:latin typeface="Times New Roman"/>
              </a:rPr>
              <a:t>Referência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[1] J. D. Banfield and A. E. Raftery. Model-based Gaussian and non-Gaussian clustering. Biometrics, 49:803–821, 1993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[2] P. Bloomfield. Fourier Analysis of Time Series: An Introduction. Wiley, New York, 1976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[3] R. Wilcox. Trimming and winsorization. In P. Armitage and T. Colton, editors, Encyclopedia of Biostatistics, volume 6, pages 4588–4590. Wiley, Chichester, 1998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0" y="6437160"/>
            <a:ext cx="9493560" cy="51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457200" tIns="45360" bIns="453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A referência [1] é um exemplo de uma citação de um artigo. Já a referência [2] é uma citação de um livro e, por fim, uma referência de um trabalho publicado em uma coleção [3]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ara saber como criar o arquivo de referências bibliográficas siga o exemplo no arquivo referencias.bib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3640" y="35280720"/>
            <a:ext cx="2754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711120" y="35353800"/>
            <a:ext cx="3195720" cy="1161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0720" y="1452600"/>
            <a:ext cx="5904000" cy="401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175640" y="1876320"/>
            <a:ext cx="5759640" cy="3811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735280" y="11231640"/>
            <a:ext cx="4824360" cy="51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0872720" y="8423280"/>
          <a:ext cx="6838560" cy="2158920"/>
        </p:xfrm>
        <a:graphic>
          <a:graphicData uri="http://schemas.openxmlformats.org/drawingml/2006/table">
            <a:tbl>
              <a:tblPr/>
              <a:tblGrid>
                <a:gridCol w="3418560"/>
                <a:gridCol w="3420000"/>
              </a:tblGrid>
              <a:tr h="7192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LMMonoLt10"/>
                          <a:ea typeface="WenQuanYi Micro Hei"/>
                        </a:rPr>
                        <a:t>Parâmetro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LMMonoLt10"/>
                          <a:ea typeface="WenQuanYi Micro Hei"/>
                        </a:rPr>
                        <a:t>Estimativas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2072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Micro Hei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15:30:44Z</dcterms:created>
  <dc:creator>Michael Alley</dc:creator>
  <dc:description/>
  <dc:language>en-US</dc:language>
  <cp:lastModifiedBy>Vitor Hirota</cp:lastModifiedBy>
  <cp:lastPrinted>2003-04-18T14:25:05Z</cp:lastPrinted>
  <dcterms:modified xsi:type="dcterms:W3CDTF">2014-08-01T13:54:33Z</dcterms:modified>
  <cp:revision>158</cp:revision>
  <dc:subject/>
  <dc:title>No Slide Title</dc:title>
</cp:coreProperties>
</file>